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7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053D-963B-472D-BAAC-9F9350EA4D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3F9C-637F-4A74-9D68-13EA5649C67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DDF-FC28-49E1-89A3-1DB6CE5C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146-C205-422E-BEEC-76FF95DE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F4C-36C2-4007-8FA7-5BD0AC96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C3BA-44CA-45AB-9922-55E2AECA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776-2375-4B84-8E48-D84D8141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7EF-6C3F-4669-BC51-C47F2154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199-297E-42FE-BDEE-402B2368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449-7150-4225-B41B-DE9BCF95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B5AE-3B9F-402D-8D38-6CB3C74E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29E6-2807-48E3-93AF-25FD71DE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F7B-D1C4-43E9-B540-3306A784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92C-951F-4A7A-B506-B3A5AA0A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2AFA-5EDF-4F27-87D9-BEF01BF455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edsovet.su/load/321-1-0-36995" TargetMode="External"/><Relationship Id="rId2" Type="http://schemas.openxmlformats.org/officeDocument/2006/relationships/hyperlink" Target="http://class-fizika.narod.ru/9_19.htm" TargetMode="External"/><Relationship Id="rId3" Type="http://schemas.openxmlformats.org/officeDocument/2006/relationships/hyperlink" Target="http://www.youtube.com/watch?v=YBvudovcuUY" TargetMode="External"/><Relationship Id="rId4" Type="http://schemas.openxmlformats.org/officeDocument/2006/relationships/hyperlink" Target="http://www.alleng.ru/d/phys/phys_ege-tr.ht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4"/>
          <p:cNvSpPr/>
          <p:nvPr/>
        </p:nvSpPr>
        <p:spPr>
          <a:xfrm>
            <a:off x="857160" y="2143080"/>
            <a:ext cx="7786800" cy="2071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мпульс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Закон сохранения импуль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1928880" y="500040"/>
            <a:ext cx="5500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физики в 10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1857240" y="4786200"/>
            <a:ext cx="557244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У Николаевской со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ушкина Т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Известна старинная легенда о богаче с мешком золотых, который, оказавшись на абсолютно гладком льду озера, замерз, но не пожелал расстаться с богатством. А ведь он мог спастись, если бы не был так жаден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Достаточно было оттолкнуть от себя мешок с золотом, и богач сам заскользил бы по льду в противоположную сторону по закону сохранения импуль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А как бы ты поступил на его мест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51280" y="2651760"/>
            <a:ext cx="6741000" cy="14832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</a:rPr>
              <a:t>Готовимся к ЕГ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6"/>
          <p:cNvSpPr/>
          <p:nvPr/>
        </p:nvSpPr>
        <p:spPr>
          <a:xfrm>
            <a:off x="357120" y="428760"/>
            <a:ext cx="8358120" cy="22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асть 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На горизонтальной поверхности находится тележка массой 20 кг, на которой стоит человек массой 60 кг. Человек начинает двигаться вдоль тележки с постоянной скоростью, тележка при этом начинает катиться без трения. Модуль скорости тележки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500040" y="3071880"/>
            <a:ext cx="8072640" cy="314316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е модуля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ньше модуля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вен модулю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жет быть как больше, так и меньше модуля скорости человека относительно поверх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8"/>
          <p:cNvSpPr/>
          <p:nvPr/>
        </p:nvSpPr>
        <p:spPr>
          <a:xfrm>
            <a:off x="2357280" y="3071880"/>
            <a:ext cx="3857760" cy="27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285840" y="428760"/>
            <a:ext cx="8358120" cy="22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010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Легковой автомобиль и грузовик движутся со скоростями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= 108 км/ч и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= 54 км/ч соответственно. Их массы соответственн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= 1000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г и      = 3000 кг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 сколько импульс  грузовика больше импульса легкового автомобиля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99840" y="3143160"/>
            <a:ext cx="371484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15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45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30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60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Содержимое 4"/>
              <p:cNvSpPr txBox="1"/>
              <p:nvPr/>
            </p:nvSpPr>
            <p:spPr>
              <a:xfrm>
                <a:off x="4143240" y="1214280"/>
                <a:ext cx="5000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6143760" y="1214280"/>
                <a:ext cx="5331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5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6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57120" y="35712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ва шари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аковой массой        движу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динаковыми по модул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ями вдоль горизонта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звестно, что д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ы тел, включающей об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рика, проекция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е нуля, 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уль проекции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е моду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екции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этом случае направ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и второго шарика должно совпадать с направлени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енным циф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Содержимое 4"/>
              <p:cNvSpPr txBox="1"/>
              <p:nvPr/>
            </p:nvSpPr>
            <p:spPr>
              <a:xfrm>
                <a:off x="3071880" y="714240"/>
                <a:ext cx="5000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143680" y="285840"/>
            <a:ext cx="37526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9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0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3"/>
          <p:cNvSpPr/>
          <p:nvPr/>
        </p:nvSpPr>
        <p:spPr>
          <a:xfrm>
            <a:off x="714240" y="3571920"/>
            <a:ext cx="2000520" cy="235728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357120" y="500040"/>
            <a:ext cx="842976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5520" y="2999880"/>
            <a:ext cx="1971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428760" y="571680"/>
            <a:ext cx="828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асть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Шар скользит по столу и налетает на второй такой же покоящийся шар. Ученики изобразили векторы импульсов шаров до соударения (верхняя часть рисунка) и после него (нижняя часть рисунка). Какой рисунок выполнен прави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"/>
          <p:cNvPicPr/>
          <p:nvPr/>
        </p:nvPicPr>
        <p:blipFill>
          <a:blip r:embed="rId1"/>
          <a:stretch/>
        </p:blipFill>
        <p:spPr>
          <a:xfrm>
            <a:off x="3000240" y="2786040"/>
            <a:ext cx="58104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8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8"/>
          <p:cNvSpPr/>
          <p:nvPr/>
        </p:nvSpPr>
        <p:spPr>
          <a:xfrm>
            <a:off x="285840" y="3714840"/>
            <a:ext cx="3857400" cy="207144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7"/>
          <p:cNvSpPr/>
          <p:nvPr/>
        </p:nvSpPr>
        <p:spPr>
          <a:xfrm>
            <a:off x="285840" y="357120"/>
            <a:ext cx="6429240" cy="32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7120" y="428760"/>
            <a:ext cx="67867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По гладкой горизонталь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и движутся два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сами      и      со скоростями    и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езультате соударен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ипаются и движутся как еди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ое. Проекция импульса эт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ось Ох после соударения буд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70254" t="0" r="0" b="21301"/>
          <a:stretch/>
        </p:blipFill>
        <p:spPr>
          <a:xfrm>
            <a:off x="6662880" y="357120"/>
            <a:ext cx="2350800" cy="321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1857240" y="1357200"/>
                <a:ext cx="373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571840" y="1357200"/>
                <a:ext cx="398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5273640" y="1357200"/>
                <a:ext cx="298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5786280" y="1357200"/>
                <a:ext cx="347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" name="Содержимое 2"/>
          <p:cNvSpPr/>
          <p:nvPr/>
        </p:nvSpPr>
        <p:spPr>
          <a:xfrm>
            <a:off x="285840" y="3500280"/>
            <a:ext cx="80010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357120" y="3786120"/>
            <a:ext cx="37148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    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2143080" y="3786120"/>
                <a:ext cx="706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9"/>
              <p:cNvSpPr txBox="1"/>
              <p:nvPr/>
            </p:nvSpPr>
            <p:spPr>
              <a:xfrm>
                <a:off x="2214720" y="4214880"/>
                <a:ext cx="76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"/>
              <p:cNvSpPr txBox="1"/>
              <p:nvPr/>
            </p:nvSpPr>
            <p:spPr>
              <a:xfrm>
                <a:off x="1857240" y="4643280"/>
                <a:ext cx="7066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2857680" y="4643280"/>
                <a:ext cx="76500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2"/>
              <p:cNvSpPr txBox="1"/>
              <p:nvPr/>
            </p:nvSpPr>
            <p:spPr>
              <a:xfrm>
                <a:off x="2143080" y="5072040"/>
                <a:ext cx="706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§39-41 (Мякишев Г.Я. Физика.10 клас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пр.8(1,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тест, состоящий из заданий части А ЕГЭ по теме «Импульс. Закон сохранения импульса»(3-5 задани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Заголовок 4"/>
          <p:cNvSpPr/>
          <p:nvPr/>
        </p:nvSpPr>
        <p:spPr>
          <a:xfrm>
            <a:off x="1643040" y="274680"/>
            <a:ext cx="6000840" cy="115416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нчевская О.В. Физика в таблицах и схемах.- Издательский дом «Литера»,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load/321-1-0-3699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шаблон для презентац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class-fizika.narod.ru/9_19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http://www.youtube.com/watch?v=YBvudovcu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http://www.alleng.ru/d/phys/phys_ege-tr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7120" y="1285920"/>
            <a:ext cx="82584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ы Ньютона выполняются в инерциальных системах отсч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яжести приложена к Зем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 тела всегда направлен вн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корение тела обратно пропорционально массе те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рения зависит от площади соприкасающихся поверхн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– величина векто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яжести имеет электромагнитную прир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реакции опоры –это сила упруг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2000160" y="285840"/>
            <a:ext cx="5286600" cy="100008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Задание с ключ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1643040" y="5643720"/>
            <a:ext cx="5286240" cy="100008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твет:  10010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2"/>
          <p:cNvSpPr/>
          <p:nvPr/>
        </p:nvSpPr>
        <p:spPr>
          <a:xfrm>
            <a:off x="428760" y="1571760"/>
            <a:ext cx="2714400" cy="100008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мпульс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и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рем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векторная физическая величина, являющаяся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мерой действ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ия силы за некоторый промежуток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27600" y="342000"/>
            <a:ext cx="531684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мпульс си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Содержимое 10"/>
              <p:cNvSpPr txBox="1"/>
              <p:nvPr/>
            </p:nvSpPr>
            <p:spPr>
              <a:xfrm>
                <a:off x="3214800" y="1785960"/>
                <a:ext cx="1323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714240" y="3071880"/>
                <a:ext cx="492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714240" y="371484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785880" y="4143240"/>
                <a:ext cx="344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8"/>
              <p:cNvSpPr txBox="1"/>
              <p:nvPr/>
            </p:nvSpPr>
            <p:spPr>
              <a:xfrm>
                <a:off x="714240" y="1643040"/>
                <a:ext cx="192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3"/>
          <p:cNvSpPr/>
          <p:nvPr/>
        </p:nvSpPr>
        <p:spPr>
          <a:xfrm>
            <a:off x="1143000" y="5143680"/>
            <a:ext cx="192888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500040" y="1643040"/>
            <a:ext cx="22860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42120" y="330840"/>
            <a:ext cx="517392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мпульс т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168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мпуль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м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корость те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векторная физическая величина, являющаяся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мерой механического дви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714240" y="1666800"/>
                <a:ext cx="19288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Содержимое 10"/>
              <p:cNvSpPr txBox="1"/>
              <p:nvPr/>
            </p:nvSpPr>
            <p:spPr>
              <a:xfrm>
                <a:off x="2913120" y="1785960"/>
                <a:ext cx="1928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71680" y="3214800"/>
                <a:ext cx="590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500040" y="3714840"/>
                <a:ext cx="6397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7"/>
              <p:cNvSpPr txBox="1"/>
              <p:nvPr/>
            </p:nvSpPr>
            <p:spPr>
              <a:xfrm>
                <a:off x="573120" y="4143240"/>
                <a:ext cx="492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1200240" y="5143680"/>
                <a:ext cx="16574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0"/>
          <p:cNvSpPr/>
          <p:nvPr/>
        </p:nvSpPr>
        <p:spPr>
          <a:xfrm>
            <a:off x="357120" y="1571760"/>
            <a:ext cx="407196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3"/>
          <p:cNvSpPr/>
          <p:nvPr/>
        </p:nvSpPr>
        <p:spPr>
          <a:xfrm>
            <a:off x="428760" y="1571760"/>
            <a:ext cx="3929040" cy="78552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4643280" y="1571760"/>
            <a:ext cx="414360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Закон сохранения импуль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6760" y="1500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Векторная сумма (геометрическая) импульсов тел в замкнутой системе остается величиной постоян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 Narrow"/>
              </a:rPr>
              <a:t>Закон можно применять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а) если  равнодействующая внешних сил равна нулю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б) для проекции на какую-либо ось, если проекция равнодействующей на эту ось равна нул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428760" y="1714680"/>
                <a:ext cx="3944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Применение закона сохранения импульс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Закон сохранения импульса при стрельбе из орудия.avi" descr=""/>
          <p:cNvPicPr/>
          <p:nvPr/>
        </p:nvPicPr>
        <p:blipFill>
          <a:blip r:embed="rId1"/>
          <a:stretch/>
        </p:blipFill>
        <p:spPr>
          <a:xfrm>
            <a:off x="2895480" y="249084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Из истории реактивного дви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51148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Первые пороховые фейерверочные и сигнальные ракеты были применены в Китае в 10 веке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В 18 веке при ведении боевых действий между Индией и Англией, а также в Русско-турецких войнах были использованы боевые раке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http://class-fizika.narod.ru/9_class/19/k09.gif"/>
          <p:cNvPicPr/>
          <p:nvPr/>
        </p:nvPicPr>
        <p:blipFill>
          <a:blip r:embed="rId1"/>
          <a:stretch/>
        </p:blipFill>
        <p:spPr>
          <a:xfrm>
            <a:off x="5929200" y="2428920"/>
            <a:ext cx="2048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551960" y="338040"/>
            <a:ext cx="6539400" cy="96696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Живые раке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114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Реактивное движение, используемое ныне в самолетах, ракетах и космических снарядах, свойственно осьминогам, кальмарам, каракатицам, медузам – все они, без исключения, используют для плавания реакцию (отдачу) выбрасываемой струи в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http://kireas.org/images/octop91.jpg"/>
          <p:cNvPicPr/>
          <p:nvPr/>
        </p:nvPicPr>
        <p:blipFill>
          <a:blip r:embed="rId1"/>
          <a:stretch/>
        </p:blipFill>
        <p:spPr>
          <a:xfrm>
            <a:off x="4714920" y="1571760"/>
            <a:ext cx="2643120" cy="197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www.timpul.md/uploads/modules/news/2010/10/17022/658x0_caracattita.jpg"/>
          <p:cNvPicPr/>
          <p:nvPr/>
        </p:nvPicPr>
        <p:blipFill>
          <a:blip r:embed="rId2"/>
          <a:stretch/>
        </p:blipFill>
        <p:spPr>
          <a:xfrm>
            <a:off x="6000840" y="3929040"/>
            <a:ext cx="278604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98840" y="330840"/>
            <a:ext cx="588852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В мире расте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Narrow"/>
              </a:rPr>
              <a:t>В южных странах ( и у нас на побережье Черного моря тоже) произрастает растение под названием "бешеный огурец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Narrow"/>
              </a:rPr>
              <a:t>Стреляет бешеный огурец (иначе его называют «дамский пистолет») более чем на 1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class-fizika.narod.ru/9_class/19/1.jpg"/>
          <p:cNvPicPr/>
          <p:nvPr/>
        </p:nvPicPr>
        <p:blipFill>
          <a:blip r:embed="rId1"/>
          <a:stretch/>
        </p:blipFill>
        <p:spPr>
          <a:xfrm>
            <a:off x="4857840" y="2928960"/>
            <a:ext cx="35463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15:13:09Z</dcterms:created>
  <dc:creator>Тятьяна</dc:creator>
  <dc:description/>
  <dc:language>en-US</dc:language>
  <cp:lastModifiedBy>Тятьяна</cp:lastModifiedBy>
  <dcterms:modified xsi:type="dcterms:W3CDTF">2013-10-31T22:52:58Z</dcterms:modified>
  <cp:revision>40</cp:revision>
  <dc:subject/>
  <dc:title>Слайд 1</dc:title>
</cp:coreProperties>
</file>